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27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wmf" ContentType="image/x-wmf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B607-69E0-49D2-9053-E4CC0332FB4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59A8-F46C-43C9-9FE3-926F0DEFEE9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68C8-7C1D-4A0B-B148-70C6FA54F89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A47C-02F3-4F4C-B6CB-AB79DDE37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2CC8-FADE-4588-91FC-0329588C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EDEC-9703-4B8C-BDAF-1FCD5C1E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A03B-60BE-4CAE-8604-586B99053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774A-CB29-4030-A9C0-35CDEBCD4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35B4-58DD-4489-857F-55B00EC3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F185-54F2-4B56-A9BE-AC9A137E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7A83-C39C-4545-8333-83A12ADB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ECC4-C200-4088-B8A7-EEE3041C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334C-715D-4C15-B04A-F99B40EC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7FA9-A74D-4E0C-8804-E42D7776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8B6F-974B-4E20-BDB4-174B2AFE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F066-7280-43DC-879F-7707C38A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81D2-B8CB-4E79-BFC4-8B2BF854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65F7-C80E-4B8B-90DA-27AEAFE9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AD23-7CC1-4933-8B7A-570C8E30F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F209-24DF-4133-9C62-AFF0D984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87F9B9-EA58-429F-BA59-BD3C59C0C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00D003-6633-447F-B596-0CC01922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E042B7-320A-4B75-874D-C534BE8D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BD52B5-1982-4552-9B96-6F70B5C5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E55969-5A64-42CA-9775-C7AE48BA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9249-88D7-46E7-AA86-E5604A11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A4DBC3-D294-4D6B-B334-13A40838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58016D-A0F8-46FF-B9B7-4EC9FFA8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A8D9A6-1645-45DF-B25A-02CF15F8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337701-9229-47FC-98D4-5884E075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775194-3919-4E31-B79C-11C5D0CE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562F97-BC18-421D-83D1-0E69E5E7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C9DC5B-DD86-41C5-BC3D-19AE2840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E3B5-99FA-4DC1-A6AD-8076CC6A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8F8E-6329-46AE-9FB2-38CC5ECD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A54A-7264-415C-BA8F-432A2808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9B3C-CA8C-46BD-9326-3263023C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22AC-4AA4-4771-A82A-8059FF71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CFEB-5182-40FB-BAF1-7DC72C4D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706C-0452-4B36-BE15-6B166AC00AE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658E-FAFD-48B3-976B-7ADAB56FE1D7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AA8A-C03A-47D8-8C5D-F262E6264235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132000" y="1700280"/>
            <a:ext cx="525780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ffff"/>
                </a:solidFill>
                <a:latin typeface="Arial"/>
              </a:rPr>
              <a:t>LA STORIA DI MOSE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ABRAHAM1"/>
          <p:cNvPicPr/>
          <p:nvPr/>
        </p:nvPicPr>
        <p:blipFill>
          <a:blip r:embed="rId1"/>
          <a:stretch/>
        </p:blipFill>
        <p:spPr>
          <a:xfrm>
            <a:off x="826920" y="1484280"/>
            <a:ext cx="184968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ex02_15b"/>
          <p:cNvPicPr/>
          <p:nvPr/>
        </p:nvPicPr>
        <p:blipFill>
          <a:blip r:embed="rId1"/>
          <a:stretch/>
        </p:blipFill>
        <p:spPr>
          <a:xfrm>
            <a:off x="720720" y="1152360"/>
            <a:ext cx="7451640" cy="55897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"/>
          <p:cNvSpPr/>
          <p:nvPr/>
        </p:nvSpPr>
        <p:spPr>
          <a:xfrm>
            <a:off x="0" y="115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osè allora ebbe paura perché si era sparsa la voce ed il Faraone voleva ucciderlo. Scappò quindi  nel paese di Madian dove si fece una famigl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mose"/>
          <p:cNvPicPr/>
          <p:nvPr/>
        </p:nvPicPr>
        <p:blipFill>
          <a:blip r:embed="rId1"/>
          <a:stretch/>
        </p:blipFill>
        <p:spPr>
          <a:xfrm>
            <a:off x="193680" y="981000"/>
            <a:ext cx="3771720" cy="5543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211280" y="836280"/>
            <a:ext cx="4608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Ora Mosè stava pascolando il gregge …. L'angelo del Signore gli apparve in una fiamma di fuoco in mezzo a un roveto. Egli guardò ed ecco: il roveto ardeva nel fuoco, ma quel roveto non si consumava. Mosè penso: «Voglio avvicinarmi a vedere questo grande spettacolo:  perché  il  roveto  non  brucia?». Il  Signore  vide  che  si  era avvicinato per vedere e Dio lo chiamò dal roveto e disse «Mosè, Mosè!». Rispose: «Eccomi!». Riprese: «Non avvicinarti! Togliti i sandali dai piedi, perché il luogo sul quale tu stai è una terra santa!» E disse: «Io sono il Dio di tuo padre, il Dio di Abramo  il Dio di Isacco, il Di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i Giacobbe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184560" y="423720"/>
            <a:ext cx="30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763640" y="260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vocazione di Mosè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s. 3, 1 e se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468360" y="107316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482436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l Signore  disse:  «Ho  osservato  la miseria  del  mio  popolo  in Egitto e ho udito il suo grido a causa dei suoi sorveglianti; conosco infatti  le  sue  sofferenze.  "Sono  sceso  per  liberarlo  dalla  mano dell'Egitto e per farlo uscire da questo paese verso un paese bello e spazioso, verso un paese dove scorre latte e miele, verso il luogo dove si trovano il Cananeo, l'Hittita, l'Amorreo, il Perizzita, l'Eveo, il Gebuseo. Ora dunque il grido degli Israeliti è arrivato fino a me e io stesso ho visto l'oppressione con cui gli Egiziani li tormentano. "Ora Và! Io ti mando dal faraone. Fa' uscire dall'Egitto il mio popolo, gli Israeliti!»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HERDER"/>
          <p:cNvPicPr/>
          <p:nvPr/>
        </p:nvPicPr>
        <p:blipFill>
          <a:blip r:embed="rId1"/>
          <a:stretch/>
        </p:blipFill>
        <p:spPr>
          <a:xfrm>
            <a:off x="5508720" y="907920"/>
            <a:ext cx="324000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PESAC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1428840" y="1928880"/>
            <a:ext cx="446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o ordina al popolo di Israele di marcare gli stipiti delle loro porte con sangue di pecora cosicché: «Io vedrò il sangue e passerò oltre; colpirò invece con il mio castigo l'intero Egitto, e a voi non succederà niente»   (Esodo 12;13-13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pesach_bibbia"/>
          <p:cNvPicPr/>
          <p:nvPr/>
        </p:nvPicPr>
        <p:blipFill>
          <a:blip r:embed="rId1"/>
          <a:stretch/>
        </p:blipFill>
        <p:spPr>
          <a:xfrm>
            <a:off x="6300720" y="2133720"/>
            <a:ext cx="2448000" cy="24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5998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frase "passerò oltre" in ebraico viene resa con la parola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Pesach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a qui il termine italiano Pasq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857160" y="1428840"/>
            <a:ext cx="763272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pasqua è, per gli ebrei, la festa più importante,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rché celebra la liberazione dall’Egitto.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termine </a:t>
            </a:r>
            <a:r>
              <a:rPr b="0" i="1" lang="it-IT" sz="2800" spc="-1" strike="noStrike">
                <a:solidFill>
                  <a:srgbClr val="ff3300"/>
                </a:solidFill>
                <a:latin typeface="Arial"/>
              </a:rPr>
              <a:t>Pesach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appare nell’Antico Testamento quando Dio annuncia al popolo di Israele, schiavo in Egitto, che lui lo libererà, egli dice :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 questa notte io passerò attraverso l'Egitto e colpirò a morte og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imogenito egiziano, sia fra le genti che tra il bestiame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  (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sodo 12;12-12)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3" dur="1" fill="hold"/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sach si celebra il 14 del mese di Nisan (marzo–aprile) e può cadere in qualsiasi giorno dell’ann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’ una festività felice trascorsa in famiglia, 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usa consumare la cena seguendo un ordine particolare di cibi e preghiere, durante il quale si narra l'intera storia del conflitto con il faraon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pasqua"/>
          <p:cNvPicPr/>
          <p:nvPr/>
        </p:nvPicPr>
        <p:blipFill>
          <a:blip r:embed="rId1"/>
          <a:stretch/>
        </p:blipFill>
        <p:spPr>
          <a:xfrm>
            <a:off x="1866960" y="2643120"/>
            <a:ext cx="4761000" cy="18702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324000" y="465300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radizionalmente è il bimbo più piccolo della casa che chiede all'uomo più vecchio di raccontare cosa successe allora, con una semplice domand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Cosa distingue questa sera da tutte le altre sere?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 CIB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pesach"/>
          <p:cNvPicPr/>
          <p:nvPr/>
        </p:nvPicPr>
        <p:blipFill>
          <a:blip r:embed="rId1"/>
          <a:stretch/>
        </p:blipFill>
        <p:spPr>
          <a:xfrm>
            <a:off x="324000" y="1916280"/>
            <a:ext cx="3630600" cy="41050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4"/>
          <p:cNvSpPr/>
          <p:nvPr/>
        </p:nvSpPr>
        <p:spPr>
          <a:xfrm>
            <a:off x="4427640" y="1903320"/>
            <a:ext cx="3994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4911840" y="4240080"/>
            <a:ext cx="3189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4211640" y="260280"/>
            <a:ext cx="4680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Sulla tavola si pone un piatto con:  il </a:t>
            </a:r>
            <a:r>
              <a:rPr b="1" lang="it-IT" sz="2100" spc="-1" strike="noStrike">
                <a:solidFill>
                  <a:srgbClr val="ff3300"/>
                </a:solidFill>
                <a:latin typeface="Arial"/>
              </a:rPr>
              <a:t>PANE AZZIMO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. Il pane dell'afflizione, povero, a ricordo del pane non lievitato preparato dalle donne ebree al momento dell'uscita dall'Egitto;   </a:t>
            </a:r>
            <a:r>
              <a:rPr b="0" lang="it-IT" sz="2100" spc="-1" strike="noStrike">
                <a:solidFill>
                  <a:srgbClr val="ff3300"/>
                </a:solidFill>
                <a:latin typeface="Arial"/>
              </a:rPr>
              <a:t>l'</a:t>
            </a:r>
            <a:r>
              <a:rPr b="1" lang="it-IT" sz="2100" spc="-1" strike="noStrike">
                <a:solidFill>
                  <a:srgbClr val="ff3300"/>
                </a:solidFill>
                <a:latin typeface="Arial"/>
              </a:rPr>
              <a:t>ERBA AMARA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, che ricorda l'amarezza della schiavitù; una zampa arrostita di capretto chiamata </a:t>
            </a:r>
            <a:r>
              <a:rPr b="0" i="1" lang="it-IT" sz="2100" spc="-1" strike="noStrike">
                <a:solidFill>
                  <a:srgbClr val="000000"/>
                </a:solidFill>
                <a:latin typeface="Arial"/>
              </a:rPr>
              <a:t>zeru'a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 che rappresenta l'offerta dell'agnello presso il Tempio di Gerusalemme in occasione di Pesach,   il </a:t>
            </a:r>
            <a:r>
              <a:rPr b="1" lang="it-IT" sz="2100" spc="-1" strike="noStrike">
                <a:solidFill>
                  <a:srgbClr val="ff3300"/>
                </a:solidFill>
                <a:latin typeface="Arial"/>
              </a:rPr>
              <a:t>CHARÒSETH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, una composta di mele e pinoli che ricorda la malta usata dagli Ebrei schiavi in Egitto;   un </a:t>
            </a:r>
            <a:r>
              <a:rPr b="1" lang="it-IT" sz="2100" spc="-1" strike="noStrike">
                <a:solidFill>
                  <a:srgbClr val="ff3300"/>
                </a:solidFill>
                <a:latin typeface="Arial"/>
              </a:rPr>
              <a:t>UOVO SODO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, simbolo di lutto, ma anche di vita;   del </a:t>
            </a:r>
            <a:r>
              <a:rPr b="1" lang="it-IT" sz="2100" spc="-1" strike="noStrike">
                <a:solidFill>
                  <a:srgbClr val="ff3300"/>
                </a:solidFill>
                <a:latin typeface="Arial"/>
              </a:rPr>
              <a:t>SEDANO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 ricorda la corrispondenza della pasqua con la primavera e la mietitur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esodo-carta"/>
          <p:cNvPicPr/>
          <p:nvPr/>
        </p:nvPicPr>
        <p:blipFill>
          <a:blip r:embed="rId1"/>
          <a:stretch/>
        </p:blipFill>
        <p:spPr>
          <a:xfrm>
            <a:off x="0" y="0"/>
            <a:ext cx="634032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6372360" y="260280"/>
            <a:ext cx="2627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Traversato il Mar delle Canne giunsero sul Monte Sinai dove ricevettero le Tavole della Leg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349 0.17942 C -0.53004 0.18058 -0.52379 0.17873 -0.52066 0.18382 C -0.51285 0.19677 -0.52535 0.18937 -0.51424 0.19422 C -0.51233 0.19677 -0.50243 0.21318 -0.50156 0.21341 C -0.49635 0.21526 -0.49097 0.2148 -0.48559 0.21549 C -0.4776 0.21896 -0.48368 0.21503 -0.47778 0.22382 C -0.47535 0.22752 -0.46979 0.23445 -0.46979 0.23445 C -0.46875 0.23862 -0.46701 0.24278 -0.46667 0.24717 C -0.46615 0.25411 -0.46649 0.26127 -0.4651 0.26821 C -0.46476 0.27029 -0.46285 0.27099 -0.46181 0.2726 C -0.45313 0.28694 -0.46337 0.27099 -0.45712 0.28509 C -0.4566 0.28648 -0.45156 0.29249 -0.45069 0.29364 C -0.44826 0.30336 -0.44392 0.3126 -0.43958 0.32116 C -0.43576 0.33642 -0.43385 0.35145 -0.42535 0.36347 C -0.42083 0.38752 -0.42726 0.35746 -0.42066 0.37827 C -0.41354 0.40116 -0.42066 0.39307 -0.41111 0.40139 C -0.41059 0.40347 -0.41042 0.40601 -0.40955 0.40786 C -0.40868 0.40948 -0.40694 0.41018 -0.40625 0.41203 C -0.40469 0.41596 -0.40313 0.42474 -0.40313 0.42474 C -0.40191 0.44347 -0.40122 0.45295 -0.39358 0.46705 C -0.39132 0.47122 -0.38941 0.47561 -0.38733 0.47977 C -0.38629 0.48185 -0.38403 0.48601 -0.38403 0.48601 C -0.37986 0.50266 -0.36667 0.52278 -0.35399 0.52833 C -0.34583 0.5385 -0.35677 0.52555 -0.34444 0.53665 C -0.34323 0.53781 -0.34236 0.53966 -0.34115 0.54104 C -0.33976 0.54266 -0.33802 0.54382 -0.33646 0.54521 C -0.33299 0.55237 -0.33142 0.55515 -0.32535 0.55792 C -0.31476 0.55584 -0.31233 0.55353 -0.30313 0.54937 C -0.29115 0.54382 -0.27743 0.54081 -0.2651 0.53896 C -0.25504 0.53434 -0.24531 0.52995 -0.23646 0.52185 C -0.23212 0.51307 -0.22552 0.50636 -0.21892 0.50081 C -0.20885 0.4807 -0.225 0.51468 -0.21424 0.48185 C -0.21337 0.47908 -0.21094 0.47792 -0.20955 0.47538 C -0.20226 0.46197 -0.21111 0.46914 -0.19844 0.45226 C -0.19583 0.44879 -0.19271 0.44555 -0.19045 0.44162 C -0.18333 0.42867 -0.18073 0.4111 -0.17448 0.39723 C -0.15868 0.36208 -0.17257 0.40601 -0.14288 0.34659 C -0.13177 0.3244 -0.12483 0.29919 -0.11424 0.27677 C -0.09913 0.2444 -0.07813 0.21804 -0.06823 0.18151 C -0.0599 0.15122 -0.06267 0.15214 -0.04757 0.12023 C -0.03767 0.09919 -0.02292 0.08185 -0.0158 0.05896 C -0.01302 0.04995 -0.00573 0.02775 -0.00313 0.01665 C -0.00191 0.0111 1.94444E-006 -0.00023 1.94444E-006 -0.00023 E">
                                      <p:cBhvr>
                                        <p:cTn id="210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’ALLE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SO01858_"/>
          <p:cNvPicPr/>
          <p:nvPr/>
        </p:nvPicPr>
        <p:blipFill>
          <a:blip r:embed="rId1"/>
          <a:stretch/>
        </p:blipFill>
        <p:spPr>
          <a:xfrm>
            <a:off x="539640" y="1989000"/>
            <a:ext cx="3724560" cy="34689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4"/>
          <p:cNvSpPr/>
          <p:nvPr/>
        </p:nvSpPr>
        <p:spPr>
          <a:xfrm>
            <a:off x="5200560" y="2224080"/>
            <a:ext cx="254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4500720" y="1484280"/>
            <a:ext cx="4074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l terzo mese dall’uscita degli Israeliti dal paese di Egitto, proprio in quel giorno, essi arrivarono al deserto del Sinai.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sraele si accampò davanti al mo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osè salì verso Di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o allora pronunciò tutte queste paro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"/>
          <p:cNvSpPr/>
          <p:nvPr/>
        </p:nvSpPr>
        <p:spPr>
          <a:xfrm>
            <a:off x="-66960" y="214200"/>
            <a:ext cx="9600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Monotype Corsiva"/>
              </a:rPr>
              <a:t>IO SONO IL SIGNORE TUO D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Monotype Corsiva"/>
              </a:rPr>
              <a:t>CHE TI HO LIBERATO DALL’EGIT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5364000" y="4076640"/>
            <a:ext cx="3529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3300"/>
                </a:solidFill>
                <a:latin typeface="Monotype Corsiva"/>
              </a:rPr>
              <a:t>NON AVRAI </a:t>
            </a:r>
            <a:br>
              <a:rPr sz="4000"/>
            </a:br>
            <a:r>
              <a:rPr b="1" lang="it-IT" sz="4000" spc="-1" strike="noStrike">
                <a:solidFill>
                  <a:srgbClr val="ff3300"/>
                </a:solidFill>
                <a:latin typeface="Monotype Corsiva"/>
              </a:rPr>
              <a:t>ALTRO D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3300"/>
                </a:solidFill>
                <a:latin typeface="Monotype Corsiva"/>
              </a:rPr>
              <a:t>ALL’ INFUORI</a:t>
            </a:r>
            <a:br>
              <a:rPr sz="4000"/>
            </a:br>
            <a:r>
              <a:rPr b="1" lang="it-IT" sz="4000" spc="-1" strike="noStrike">
                <a:solidFill>
                  <a:srgbClr val="ff3300"/>
                </a:solidFill>
                <a:latin typeface="Monotype Corsiva"/>
              </a:rPr>
              <a:t>DI 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560" y="4869000"/>
            <a:ext cx="84978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ando Giuseppe e i suoi fratelli morirono, i figli di Israele in Egitto erano numerosi e potenti ed il paese ne era pieno. Allora sorse in Egitto un nuovo re, che non aveva conosciuto Giuseppe. Egli disse al suo popo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ex01_06"/>
          <p:cNvPicPr/>
          <p:nvPr/>
        </p:nvPicPr>
        <p:blipFill>
          <a:blip r:embed="rId1"/>
          <a:stretch/>
        </p:blipFill>
        <p:spPr>
          <a:xfrm>
            <a:off x="1440000" y="52560"/>
            <a:ext cx="63720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ex19_08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3"/>
          <p:cNvSpPr/>
          <p:nvPr/>
        </p:nvSpPr>
        <p:spPr>
          <a:xfrm>
            <a:off x="1116000" y="0"/>
            <a:ext cx="7128000" cy="1052640"/>
          </a:xfrm>
          <a:prstGeom prst="wedgeRoundRectCallout">
            <a:avLst>
              <a:gd name="adj1" fmla="val -12162"/>
              <a:gd name="adj2" fmla="val 490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TUTTI I COMANDI DEL SIGNORE LI ESEGUIREM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5" descr="ex09_01-02"/>
          <p:cNvPicPr/>
          <p:nvPr/>
        </p:nvPicPr>
        <p:blipFill>
          <a:blip r:embed="rId1"/>
          <a:stretch/>
        </p:blipFill>
        <p:spPr>
          <a:xfrm>
            <a:off x="1511280" y="2205000"/>
            <a:ext cx="6300720" cy="46530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324000" y="404640"/>
            <a:ext cx="8640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Poi Mosè prese metà dal sangue e lo mise in tanti catini e ne versò l’altra metà sull’altare. Quindi lesse il libro dell’Alleanza alla presenza del popolo. Dissero: “Quanto il Signore ha ordinato, noi lo faremo e lo eseguirem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6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6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ex19_17"/>
          <p:cNvPicPr/>
          <p:nvPr/>
        </p:nvPicPr>
        <p:blipFill>
          <a:blip r:embed="rId1"/>
          <a:stretch/>
        </p:blipFill>
        <p:spPr>
          <a:xfrm>
            <a:off x="0" y="0"/>
            <a:ext cx="3564000" cy="26733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3780000" y="404640"/>
            <a:ext cx="518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llora Mosè prese il sangue ed asperse anche il popolo, dicend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0" y="3284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Ecco il sangue dell’alleanza, che il Signore ha concluso con voi sulla base di tutte queste pa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BD07765_"/>
          <p:cNvPicPr/>
          <p:nvPr/>
        </p:nvPicPr>
        <p:blipFill>
          <a:blip r:embed="rId2"/>
          <a:stretch/>
        </p:blipFill>
        <p:spPr>
          <a:xfrm>
            <a:off x="2224080" y="4341960"/>
            <a:ext cx="46530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Immagine 4" descr="michelangelo_moses1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4286160" y="-15840"/>
            <a:ext cx="4857840" cy="6873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357120" y="0"/>
            <a:ext cx="82296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ntercess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almo 1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[23]E aveva già deciso di sterminarli,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e Mosè suo eletto non fosse stato sulla breccia di fronte a lui, per stornare la sua collera dallo stermin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sodo 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[30]Il giorno dopo Mosè disse al popolo: “Voi avete commesso un grande peccato; ora salirò verso il Signore: forse otterrò il perdono della vostra colpa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[31]Mosè ritornò dal Signore e disse: “Questo popolo ha commesso un grande peccato: si sono fatti un dio d'oro. [32]Ma ora, se tu perdonassi il loro peccato... E se no, cancellami dal tuo libro che hai scritto!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[33]Il Signore disse a Mosè: “Io cancellerò dal mio libro colui che ha peccato contro di me. [34]Ora và, conduci il popolo là dove io ti ho d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Segnaposto contenuto 3" descr="luce-dal-cielo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45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Mosè sulla montagna Esodo (33)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[18]Gli disse: “Mostrami la tua Gloria!”. 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[19]Rispose: “Farò passare davanti a te tutto il mio splendore e proclamerò il mio nome: Signore, davanti a te. Farò grazia a chi vorrò far grazia e avrò misericordia di chi vorrò aver misericordia”. [20]Soggiunse: “Ma tu non potrai vedere il mio volto, perché nessun uomo può vedermi e restare vivo”. [21]Aggiunse il Signore: “Ecco un luogo vicino a me. Tu starai sopra la rupe: [22]quando passerà la mia Gloria, io ti porrò nella cavità della rupe e ti coprirò con la mano finché sarò passato. [23]Poi toglierò la mano e vedrai le mie spalle, ma il mio volto non lo si può vedere”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NEL DESERT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1" descr="manna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395280" y="1197000"/>
            <a:ext cx="3657600" cy="4896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1167_1_cc13quaglia200"/>
          <p:cNvPicPr/>
          <p:nvPr/>
        </p:nvPicPr>
        <p:blipFill>
          <a:blip r:embed="rId2"/>
          <a:stretch/>
        </p:blipFill>
        <p:spPr>
          <a:xfrm>
            <a:off x="7358040" y="0"/>
            <a:ext cx="1690560" cy="1665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4"/>
          <p:cNvSpPr/>
          <p:nvPr/>
        </p:nvSpPr>
        <p:spPr>
          <a:xfrm>
            <a:off x="1119600" y="5805360"/>
            <a:ext cx="19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MA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0"/>
          <p:cNvSpPr/>
          <p:nvPr/>
        </p:nvSpPr>
        <p:spPr>
          <a:xfrm>
            <a:off x="6000840" y="5715000"/>
            <a:ext cx="266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E QUAG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7"/>
          <p:cNvSpPr/>
          <p:nvPr/>
        </p:nvSpPr>
        <p:spPr>
          <a:xfrm>
            <a:off x="808200" y="150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0"/>
          <p:cNvSpPr/>
          <p:nvPr/>
        </p:nvSpPr>
        <p:spPr>
          <a:xfrm>
            <a:off x="4356000" y="1700280"/>
            <a:ext cx="374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Gli Israeliti dissero: “ci avete fatti uscire in questo deserto per farci morire di fame”. … Allora il Signore  disse a Mosè: “Ecco sto per far piovere pane dal cielo per voi …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1"/>
          <p:cNvSpPr/>
          <p:nvPr/>
        </p:nvSpPr>
        <p:spPr>
          <a:xfrm>
            <a:off x="395280" y="1773360"/>
            <a:ext cx="3889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Signore disse a Mosè: “Ho inteso la mormorazione degli Israeliti. … Al tramonto mangerete carne”. … Ora alla sera le quaglie salirono e coprirono l’accampamen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004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NEL DESERT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comandato di colpire la roccia per acqua "/>
          <p:cNvPicPr/>
          <p:nvPr/>
        </p:nvPicPr>
        <p:blipFill>
          <a:blip r:embed="rId1"/>
          <a:stretch/>
        </p:blipFill>
        <p:spPr>
          <a:xfrm>
            <a:off x="0" y="0"/>
            <a:ext cx="2436840" cy="452592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0"/>
          <p:cNvSpPr/>
          <p:nvPr/>
        </p:nvSpPr>
        <p:spPr>
          <a:xfrm>
            <a:off x="288720" y="4643280"/>
            <a:ext cx="211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ACQUA 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CATURIS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ALLA ROC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2714760" y="857160"/>
            <a:ext cx="6111720" cy="59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umeri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[1]Ora tutta la comunità degli Israeliti arrivò al deserto di Sin. [2]Mancava l'acqua per la comunità: ci fu un assembramento contro Mosè e contro Aronne. [3]Il popolo ebbe una lite con Mosè, dicendo: “Magari fossimo morti quando morirono i nostri fratelli davanti al Signore! [4]Perché avete condotto la comunità del Signore in questo deserto per far morire noi e il nostro bestiame? [7]Il Signore disse a Mosè: [8]“Prendi il bastone e tu e tuo fratello Aronne convocate la comunità e alla loro presenza parlate a quella roccia, ed essa farà uscire l'acqua; tu farai sgorgare per loro l'acqua dalla roccia e darai da bere alla comunità e al suo bestiame”.  [10]Mosè e Aronne convocarono la comunità davanti alla roccia e Mosè disse loro: “Ascoltate, o ribelli: vi faremo noi forse uscire acqua da questa roccia?”. [11]Mosè alzò la mano, percosse la roccia con il bastone due volte e ne uscì acqua in abbondanza; ne bevvero la comunità e tutto il bestia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3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7" descr="A causa del peccato"/>
          <p:cNvPicPr/>
          <p:nvPr/>
        </p:nvPicPr>
        <p:blipFill>
          <a:blip r:embed="rId1"/>
          <a:stretch/>
        </p:blipFill>
        <p:spPr>
          <a:xfrm>
            <a:off x="5448240" y="1600200"/>
            <a:ext cx="243864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MORSO DEI SERP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928440"/>
            <a:ext cx="507204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popolo non sopportò il viaggio e parlò male del Signore e di Mosè. … Allora il Signore mandò fra il popolo serpenti velenosi i quali mordevano la gente e un gran numero di Israeliti morì. Allora il popolo venne a Mosè e disse: “ abbiamo peccato, …, prega il Signore che allontani da noi questi serpenti. Mosè pregò il Signore che gli disse: ”Fatti un serpente e mettilo sopra un’asta; chiunque, dopo essere stato morso, lo guarderà resterà in vita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050560" y="0"/>
            <a:ext cx="67690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oi Mosè salì dalle steppe di Moab sul monte Nebo, cima del Pisga, che è di fronte a Gerico. Il Signore gli mostrò tutto il paese: Gàlaad fino a Dan, tutto Nèftali, il paese di Efraim e di Manàsse, tutto il paese di Giuda fino al Mar Mediterraneo e il Negheb, il distretto della valle di Gerico, città delle palme, fino a Zoar. Il Signore gli disse: «Questo è il paese per il quale io ho giurato ad Abramo, a Isacco e a Giacobbe: Io lo darò alla tua discendenza. Te l'ho fatto vedere con i tuoi occhi, ma tu non vi entrerai!».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osè, servo del Signore, morì in quel luogo, nel paese di Moab, secondo l'ordine del Signo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" descr="ABRAHAM1"/>
          <p:cNvPicPr/>
          <p:nvPr/>
        </p:nvPicPr>
        <p:blipFill>
          <a:blip r:embed="rId1"/>
          <a:stretch/>
        </p:blipFill>
        <p:spPr>
          <a:xfrm>
            <a:off x="0" y="1197000"/>
            <a:ext cx="200340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640" y="486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La storia di Mosè</a:t>
            </a:r>
            <a:br>
              <a:rPr sz="4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Quando Giuseppe Morì, i figli di Israele in Egitto diventarono numerosi e potenti ed il paese ne fu pieno. Allora sorse in Egitto un nuovo re, che non aveva conosciuto Giusep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ex01_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6"/>
          <p:cNvSpPr/>
          <p:nvPr/>
        </p:nvSpPr>
        <p:spPr>
          <a:xfrm>
            <a:off x="2268360" y="115920"/>
            <a:ext cx="460872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 figli d’Israele stanno diventando troppo numerosi e più forti di noi. Fra poco ci supereranno e vuoi vedere che in caso di guerra si uniscono con i nostri avversari combattendo contro di no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7" descr="ex01_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8"/>
          <p:cNvSpPr/>
          <p:nvPr/>
        </p:nvSpPr>
        <p:spPr>
          <a:xfrm>
            <a:off x="468360" y="189000"/>
            <a:ext cx="82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Allora resero amara la loro vita, costringendoli a fabbricare mattoni di argilla e costruire così le loro città. Ma quanto più opprimevano il popolo, tanto più esso cresceva di numero. Il Faraone decise di convocare le levatri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ex01_15-16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2340000" y="189000"/>
            <a:ext cx="4537080" cy="105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Quando assistete al parto delle donne ebree, ucciderete ogni figlio maschio.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e è femmina la farete viv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ex02_03a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4896000" y="1844640"/>
            <a:ext cx="42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na donna della famiglia di Levi concepì  e partorì un figlio. Per non farlo morire, lo mise in un cestello e lo affidò al Ni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ex02_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1042920" y="189000"/>
            <a:ext cx="3673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figlia del faraone scese nel Nilo per fare il bagno e vide il bambino. Capì che era un figlio degli Ebrei, e decise di salvarlo, chiamandolo Mosé: SALVATO DALLE AC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ex02_11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4824360" y="3789360"/>
            <a:ext cx="428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ivenuto grande, Mosè si recò dai suoi fratelli e notò i lavori pesanti da cui erano oppressi. Vide un egiziano che colpiva un Ebre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3"/>
          <p:cNvSpPr/>
          <p:nvPr/>
        </p:nvSpPr>
        <p:spPr>
          <a:xfrm>
            <a:off x="4572000" y="46836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ato che non c’era nessuno che poteva vederlo, colpì a morte l’Egiziano e lo seppellì nella sabb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ex02_12c"/>
          <p:cNvPicPr/>
          <p:nvPr/>
        </p:nvPicPr>
        <p:blipFill>
          <a:blip r:embed="rId1"/>
          <a:stretch/>
        </p:blipFill>
        <p:spPr>
          <a:xfrm>
            <a:off x="0" y="0"/>
            <a:ext cx="4500720" cy="3376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ex02_13a"/>
          <p:cNvPicPr/>
          <p:nvPr/>
        </p:nvPicPr>
        <p:blipFill>
          <a:blip r:embed="rId2"/>
          <a:stretch/>
        </p:blipFill>
        <p:spPr>
          <a:xfrm>
            <a:off x="4500720" y="3357720"/>
            <a:ext cx="4643280" cy="34826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6"/>
          <p:cNvSpPr/>
          <p:nvPr/>
        </p:nvSpPr>
        <p:spPr>
          <a:xfrm>
            <a:off x="0" y="3429000"/>
            <a:ext cx="4500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giorno dopo, vide due Ebrei che litigavano. Intervenne per mettere pace. Ma uno dei due disse: “Che, vuoi uccidermi, come hai fatto con l’Egiziano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2T10:28:25Z</dcterms:created>
  <dc:creator> </dc:creator>
  <dc:description/>
  <dc:language>en-US</dc:language>
  <cp:lastModifiedBy>Vice</cp:lastModifiedBy>
  <dcterms:modified xsi:type="dcterms:W3CDTF">2011-02-01T11:10:24Z</dcterms:modified>
  <cp:revision>49</cp:revision>
  <dc:subject/>
  <dc:title>La storia di Mosè Quando Giuseppe Morì, i figli di Israele in Egitto diventarono numerosi e potenti ed il paese ne fu pieno. Allora sorse in Egitto un nuovo re, che non aveva conosciuto Giuseppe. Egli disse al suo popolo:</dc:title>
</cp:coreProperties>
</file>